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948-31F3-4C47-B874-8E97222E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10C-3BEF-4B43-889F-96421E2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B16-3C37-43B8-999F-9FE87BAA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7C1-F180-4C4B-B92D-34B6FCC9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A2FB-FB83-4495-8927-819CA5AA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FF8A-C41A-42F4-8ADC-FEEE6D41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4542-BE4C-4245-91A3-17E55F94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68EC-6EDC-46CC-B58D-CE9B1C00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A436-9268-419B-8239-1969DBEF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5DC8-239E-4B3A-B97E-1EA99640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7CC0-D662-4FFE-A3E8-E47E8B3C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785-107A-4639-839C-FA63A252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650B-3084-492F-8C92-AB3E938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653A-AECB-4734-9B8C-B112D156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6300-9FD3-46A6-94BD-2389C6E6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1965-E2CF-4F3C-B987-0622158F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EF80-2173-4EE3-B321-8B5DBF83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67C-2D8E-419D-A2BC-DCDA757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B17-5162-4A9F-B5E5-32954F33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EB4-6C0E-4455-A50A-27BC4C6D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293-FACA-4671-912F-C4DBC656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D4B-3539-42C2-AE83-C6A7925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3E2-E214-40F6-A8E7-EEA2CEA0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213-BDFC-4E0B-8B06-324A3215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E3F0-C155-45FF-8C17-F8C9520B34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C160-1370-475A-B29C-8E57586340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PE 481 - Mineswee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3200" y="6248160"/>
            <a:ext cx="6400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feez Ja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testField1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9424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testField2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88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testField3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595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testField4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4689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testField5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706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testField6" descr=""/>
          <p:cNvPicPr/>
          <p:nvPr/>
        </p:nvPicPr>
        <p:blipFill>
          <a:blip r:embed="rId1"/>
          <a:stretch/>
        </p:blipFill>
        <p:spPr>
          <a:xfrm>
            <a:off x="1066680" y="1951200"/>
            <a:ext cx="632484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- Deftempl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1981080"/>
            <a:ext cx="5333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ine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id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row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col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status ?status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ultislot surroundingUnknowns) - integ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ultislot allSurroundingSquares) - integ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numSurroundingFlags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inefield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mineSquaresKnown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numberMines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mineHeight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mineWidth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- Defgloba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TY_SQU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AGGED_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– GUI hook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eveal-square ?row ?c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lag-square ?row ?c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– Jess comman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3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s.vu.nl/~ksprac/2002/doc/Jess60/functions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he number of fields in a multifield valu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RUE if the first argument is a subset of the second (i.e., all the elements of the first multifield appear in the second multifield); otherwise, returns FALS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a new multifield consisting of all elements of the second multifield not appearing in the first multifiel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section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he intersection of two multifields. Returns a multifield consisting of the elements the two argument multifields have in commo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rue if the argument is true, false otherwis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28800" y="2286000"/>
          <a:ext cx="2548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0"/>
                    <a:ext cx="2548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241960" y="2319480"/>
            <a:ext cx="34448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le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ly created by Robert Donner and Curt Joh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174312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174312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491920" y="243828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pen and save mine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4495680"/>
          <a:ext cx="121932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495680"/>
                    <a:ext cx="121932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057400" y="4800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more freedom in choosing minefield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Feature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2209680"/>
          <a:ext cx="408168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0816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57240" y="2928960"/>
            <a:ext cx="406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Rete engine on/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 Rete engin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all combinations (b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 of the Ass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JESS agent that will find mines in a given Mine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esweeper.c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the Jess directory, each rule that is written in this file will be loaded and executed by the MineSweeper program to determine min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ding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ally deduce and flag mine locations in a given solvable minefield (one that doesn't require gues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all the test cases in the "testCases"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expert minefields in an efficient and fast man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 breakdow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points for implementing the deffunctions "flagAllSurroundingUnknowns" and "revealAllSurroundingUnknown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points for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points for the test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points for the README file and documentation of the source co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mi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minesweeper.clp"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ing the JESS rules to solve a given mine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ME file documenting how your agent deduces mine locations and any known 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resentation contains 6 basic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may not be the ones I use to test you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8:11:33Z</dcterms:created>
  <dc:creator>hjaffer</dc:creator>
  <dc:description/>
  <dc:language>en-US</dc:language>
  <cp:lastModifiedBy>hjaffer</cp:lastModifiedBy>
  <dcterms:modified xsi:type="dcterms:W3CDTF">2004-01-30T21:00:35Z</dcterms:modified>
  <cp:revision>16</cp:revision>
  <dc:subject/>
  <dc:title>CPE 481 - Minesweeper</dc:title>
</cp:coreProperties>
</file>